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8E8-9944-4AF4-AC2E-BC218B78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F16-4633-4777-A3D1-7851209C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57C-50D2-4ADD-9229-506AC656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652-EEED-42F1-9CCA-1C06EBC8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0A52-EDF7-4BDD-941C-7B151E4D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AA03-203D-4358-B673-07F822DE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3FB4-F3A7-4D24-AA45-D0B7BB5A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9036-2372-414C-9CCF-3E622C34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387C-8FD2-4120-A77C-74982D56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6FF5-7A15-42E8-975A-F3916845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EA4-2587-460F-B3D4-02E4484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249-A18A-4D0B-A8C2-5D756568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C086-5529-41FE-B056-C2F93AC0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11C1-A782-4231-9FF1-CF75C8C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A330-A9C3-4AB9-9419-A3282A13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8FA-D8F4-461F-A5BC-DC752D74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9007-0F7D-4811-94D8-13084CB5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0A5-DD15-436F-9585-C4508F64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3264-B86E-461D-86A4-986B4FDF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B50-590F-4E57-B7CE-398D1770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F28-0680-4B8E-AFF6-5BBF248E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941-5B6E-4E05-A6FE-D44DA8DA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08E-7D16-4866-BB12-CC6A7920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DA1-134D-4C07-B9D4-036A38C1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D52-8A89-43BF-A4A5-BA93F1E803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DA2C-AA7C-4BD9-BE3F-1F28053344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s passions et mes loisi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ogdan Beng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s sont mes passions et mes loisirs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Quels sont les vôtres ?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s pas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71600" y="4495680"/>
            <a:ext cx="281952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tenn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erlin Sans FB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J’ador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jouer tennis parce qu'il est l'un d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lus beau sport dans la monde et parce q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suis un personn sportif. Je pratique  tenni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quand j'avais 7 ans et  j'ai partici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 plusieurs tourno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314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ongée sous-marin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Je practique plonge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sous-marine de quatre ann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et je l’aime beacoup parce q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la mer est une autre v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C’est magnifique!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voy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lin Sans FB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Berlin Sans FB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Dans chaque vacances j’ai visit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e une region montagne ou j’ai allee a la mer.Dans ces voyages je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visiter tous les beaux lieux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 et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'apprecie la beaute de chaque lieu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.Je voudrais aller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n Australie parce qu'il ya de meilleurs endroits pour faire la plongee sous-mar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828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s loisi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4724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pi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sais comment jo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u piano depuis que j'ai 10 a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resque tous les week-e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stduiez chans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t jouer du pian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le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'ai lu presque tous les soir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ais maintenant que je n'ai pas d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emps.J'aime lire et d'appren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ouvelles informa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2857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ordinate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2666880"/>
            <a:ext cx="50292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Un ordinateur est une machine electronique qui fonctionne par la lecture sequentielle d'un ensemble d'instructions qui lui font executer des operations logiques et arithmetiques sur des chiffres binaires. J’aime a en apprendre davantage sur les ordinateurs et aussi jouer sur l'ordinateu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O</cp:lastModifiedBy>
  <dcterms:modified xsi:type="dcterms:W3CDTF">2012-05-15T06:17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